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A3C8-0184-4AC5-B134-E7CE95F70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hapter Ten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xis (axis of symmetry)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xis of a parabola is the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vertical or horizontal line through the vertex of the parabol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(axis of symmetr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xis of a parabola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or horizontal line through the vertex of the parab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adratic func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function defined by an equation of the form f(x) = ax2 + bx + c, for real numbers a, b, and c, with a  0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func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defined by an equation of the form f(x) = ax2 + bx + c, for real numbers a, b, and c, with a 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uperstition Mountain Campu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entral Arizona College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stition Mountain Cam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izona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adratic equation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quadratic equation is an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quation that can be written in the form ax2 + bx + c = 0, where a, b, and c are real numbers,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ith a  0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equ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atic equation is 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that can be written in the form ax2 + bx + c = 0, where a, b, and c are real numbe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scrimina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quantity under the radical in the quadratic formula, b2 - 4ac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rimina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antity under the radical in the quadratic formula, b2 - 4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lex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number that can be written in the form a + bi, where a and b are real numbers. </a:t>
            </a:r>
            <a:br>
              <a:rPr sz="1200"/>
            </a:b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numb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written in the form a + bi, where a and b are real number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maginary numbe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mplex number a + bi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ith b  0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lex number a + b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b 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al part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real part of a complex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a + bi is 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l part of a comple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a + bi is 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maginary par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imaginary part of the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lex number a + bi is b. </a:t>
            </a:r>
            <a:br>
              <a:rPr sz="1200"/>
            </a:b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aginary part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number a + bi is b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tandard form of a complex numbe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tandard form of a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lex number is a + bi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form of a complex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form of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number is a + b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njugate of a complex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conjugate of a complex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a + bi is a - bi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of a complex numb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jugate of a comple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a + bi is a - b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1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2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3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4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5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6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199.104.225.69/smc/jacobs/mat090/default.htm" TargetMode="External"/><Relationship Id="rId2" Type="http://schemas.openxmlformats.org/officeDocument/2006/relationships/hyperlink" Target="http://199.104.225.69/smc/jacobs/default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Times New Roman"/>
              </a:rPr>
              <a:t>Introductory Algebra</a:t>
            </a:r>
            <a:br>
              <a:rPr sz="6000"/>
            </a:br>
            <a:r>
              <a:rPr b="1" lang="en-US" sz="6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Glossary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Chapter Ten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parabola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parabola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axis (axis of symmetry)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axis of a parabola is the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vertical or horizontal line through the vertex of the parabol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quadratic function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 function defined by an equation of the form f(x) = a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+ bx + c, for real numbers a, b, and c, with a  0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Return to</a:t>
            </a: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5400"/>
            </a:br>
            <a:r>
              <a:rPr b="0" lang="en-US" sz="5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Introductory Algebra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Created by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James Q. Jacobs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uperstition Mountain Campus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entral Arizona College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quadratic equation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 quadratic equation is an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equation that can be written in the form a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+ bx + c = 0, where a, b, and c are real numbers,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with a  0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discriminant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quantity under the radical in the quadratic formula, b</a:t>
            </a:r>
            <a:r>
              <a:rPr b="0" lang="en-US" sz="40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- 4ac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complex number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ny number that can be written in the form a + bi, where a and b are real numbers. 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imaginary number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 complex number a + bi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with b </a:t>
            </a:r>
            <a:r>
              <a:rPr b="0" lang="en-US" sz="40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0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real part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real part of a complex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number a + bi is 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imaginary part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imaginary part of the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complex number a + bi is b. 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standard form of a complex number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standard form of a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complex number is a + bi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conjugate of a complex number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conjugate of a complex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number a + bi is a - bi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25:39Z</dcterms:created>
  <dc:creator>cacsmc</dc:creator>
  <dc:description/>
  <dc:language>en-US</dc:language>
  <cp:lastModifiedBy>RomaK</cp:lastModifiedBy>
  <dcterms:modified xsi:type="dcterms:W3CDTF">2015-09-04T07:35:50Z</dcterms:modified>
  <cp:revision>14</cp:revision>
  <dc:subject/>
  <dc:title>Introductory Algebra</dc:title>
</cp:coreProperties>
</file>